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8AB-79E9-40B3-A908-7CB08C62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BAD-9501-4DFC-9FCA-77C3EB8C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9C1-8BCB-4BB4-B726-8ED1FAC9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349-B2E1-4690-94D4-C845664A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EDE9-989D-456F-AC14-08D463BC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C98F-3802-4C04-826D-31D9893C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6426-67AC-4F32-B02C-DEDF0193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16AC-1F80-4B23-93E8-3B36FB19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C291-3BCF-4221-8E07-95550BA1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0689-8B0C-4E3B-B85A-B0B59E66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6AD0-DC58-4533-8EAE-C8BFCD49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AC0-2188-4F38-820B-F09C8408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2562-FF9F-4FFA-8250-76BAF815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3519-C5D0-4477-9443-CEBBE1A9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784B-EE10-4BF5-A1D5-911420BC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6EF5-5B16-4249-8918-5A029ED8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05F4-7A6B-4DFA-AE4C-C1480D38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9F5-C994-40F5-8D95-10B5904C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13F-7F80-4955-B2D5-2A59DEBB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DD4-30CE-49BB-A89E-6584B071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D51-023F-4044-B0B7-081F62FB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F0C-1AC0-46DB-BC52-47F5E302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3D7-D286-4E02-BF1F-8051DB86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B2B-35C5-428B-8878-8E923C8C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B09D98-5776-424C-8DD1-198E3D974E5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DE70B6-72C1-4003-9D59-C0C306A3E90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521964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О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0" y="2853000"/>
            <a:ext cx="55076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 cap="all">
                <a:solidFill>
                  <a:schemeClr val="accent4"/>
                </a:solidFill>
                <a:latin typeface="Calibri"/>
              </a:rPr>
              <a:t>«ЮНОСТЬ И НАДЕЖДЫ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g12.proshkolu.ru/content/media/pic/std/5000000/4082000/4081061-741f0e362440d869.jpg"/>
          <p:cNvPicPr/>
          <p:nvPr/>
        </p:nvPicPr>
        <p:blipFill>
          <a:blip r:embed="rId1"/>
          <a:stretch/>
        </p:blipFill>
        <p:spPr>
          <a:xfrm>
            <a:off x="5220000" y="476640"/>
            <a:ext cx="3803400" cy="58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60640"/>
            <a:ext cx="4258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Этюд головы девочки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. Рубенс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3610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пишите. Что вы видите на этом портрете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31880" y="0"/>
            <a:ext cx="481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ика Морозов» В. Сер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71640" y="908640"/>
            <a:ext cx="682236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идумай и нарисуй образ радости детства и светлой юности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Юность и надеж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и всех народов стремятся к счастью и верят, что в будущем жизнь будет лучш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не может жить без мечты. А мечты и надежды связывают с юность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скусстве всех народов есть светлая тема радости жизни, красоты молодости, тема счасть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26744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енины»-Веласке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56640"/>
            <a:ext cx="313164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групповой портрет, на нем изображена королевская семья(король Филип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его жена) и придворные королевы и инфанты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росторном зале королевского дворца стоит тишина. По придворному этикету, пока король безмолвствует, никто не имеет права говорить. Вдруг распахивается дверь, и в нее вбегает маленькая светловолосая девочка в неудобном темном платье. Придворные дамы и кормилица стараются удержать ее от неуместного проявления резвости и нарушения этикета, но инфанта (принцесса) не слушается, ей хочется бегать и резвиться. Увидев отца и мать, она внезапно останавливается, а менина, почтительно склонившись, подносит бокал воды, чтобы успокоить ее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Какие детские черты раскрыл художник в картине «Менины»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211920" y="0"/>
            <a:ext cx="59317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466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Какие детские черты раскрыл художник в картине «Менины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осредственност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лост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орств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ость детств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636000" y="1484640"/>
            <a:ext cx="521820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60116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инаида Серебрякова «Портрет дочери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s48.radikal.ru/i122/1005/f0/a4db097f8e40.jpg"/>
          <p:cNvPicPr/>
          <p:nvPr/>
        </p:nvPicPr>
        <p:blipFill>
          <a:blip r:embed="rId1"/>
          <a:stretch/>
        </p:blipFill>
        <p:spPr>
          <a:xfrm>
            <a:off x="4572000" y="692640"/>
            <a:ext cx="4469400" cy="616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vadiman79.users.photofile.ru/photo/vadiman79/115640170/xlarge/134581427.jpg"/>
          <p:cNvPicPr/>
          <p:nvPr/>
        </p:nvPicPr>
        <p:blipFill>
          <a:blip r:embed="rId2"/>
          <a:stretch/>
        </p:blipFill>
        <p:spPr>
          <a:xfrm>
            <a:off x="323640" y="744480"/>
            <a:ext cx="4080600" cy="61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94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ртрет старика с внуком»- ит. Художни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. Гирландайо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440" cy="514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сравнивает два возраста. С какой любовью и теплом  смотрят друг на друга дедушка и его маленький внучек, жившие 500 лет назад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ли уж отличаются  они от современных дедушек и их любимых внуков?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хотел рассказать зрителю художник?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Знание, опыт даются людям путем жертв и горя. Только в начале жизни, в детстве существует радостный взгляд на жизнь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140000" y="0"/>
            <a:ext cx="500364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640" y="274680"/>
            <a:ext cx="4104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ртрет мальчика Челищева(1809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.А. Кипренск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8264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внимание художник сосредоточил  на передаче выражения лица. Его привлекательное умное лицо чуть повернуто вправо, большие темные глаза широко открыты и внимательно, пытливо смотрят на зрителя, на мир. Это сверстник Пушкина и декабристов, старший брат Лермонтов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 чем он думает и мечтает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Какие черты детского характера изобразил художник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дежда на светлое будущее, мечты о подвигах, путешествиях, открытиях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835800" y="0"/>
            <a:ext cx="53078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9624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евочка с персиками»(1887) В. Сер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640" y="1196640"/>
            <a:ext cx="302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нтре картины художник поместил девочку-подростка Верушу Мамонтову. Весь облик ее говорит о живости характера, темпераменте. Девочка сидит за столом светло-розовой блузе. Перед ней на светлой скатерти персики и осенние листья. Комната озарена осеним светом, идущие через большие окна. Девочка как будто присела на минуту и тотчас умчится, едва художник закончит ее рисовать. Сразу видно, что долго сидеть ей труднее, чем бегать, прыгать целый день!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Чем она похожа на вас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Какие впечатления у вас от этой картины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Что вы можете сказать о детстве этой девочки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48080" y="404640"/>
            <a:ext cx="5695560" cy="61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2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ртрет сына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Тропинин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8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ртине приковывают  внимание глаза мальчика. Он пытливо смотрит в наш мир, ищет ответы на свои вопрос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Что вы можете сказать о таких средствах выразительности, как цвет и свет, в этой картине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858840" y="0"/>
            <a:ext cx="5284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  <Words>555</Words>
  <Paragraphs>41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0:20:47Z</dcterms:created>
  <dc:creator>User</dc:creator>
  <dc:description/>
  <dc:language>en-US</dc:language>
  <cp:lastModifiedBy>Юлия</cp:lastModifiedBy>
  <dcterms:modified xsi:type="dcterms:W3CDTF">2014-05-11T10:50:26Z</dcterms:modified>
  <cp:revision>18</cp:revision>
  <dc:subject/>
  <dc:title>Тема: «Юность и надежд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